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F8D-F735-42CB-BD60-D7E31466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F8BE-52A5-4882-851A-74C3530F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F7FC-E5BB-42F3-9C78-193AF63D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907E-9B35-4F19-AE33-08D2E51F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7B48-C6B8-44F6-BA14-C88A8BDF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E913-679C-4FCB-AF04-D3FC00B3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D0B9-1B29-40EB-BF6B-6C14A27F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2983-754F-4415-AE1E-F84608E5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4735-EC4F-40DC-A490-7C02F8CC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EE86-C725-4523-8001-E63E83F4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6AC2-A3D4-409C-8CA4-89A1A77B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AC4C-4B72-41B8-8A34-ED32E759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7353-D4E5-4DC5-9F65-55C5F0FA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3AD0-E4D6-4DE4-92D7-2709B2CB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58D5-82B7-43A8-9504-A9443E4D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3459-B624-4306-85CE-FD31DD81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91F1-42AE-41DA-B7D1-DE42ADE4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9644-C03B-4439-9497-1CAA6EA1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BE36-4B21-453B-9853-EE0AAFD2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179E-0602-4A60-AC21-749E238F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436A-925C-4814-9DA1-9BF61B92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D3D6-6E6B-41A3-BDE7-5FFCD669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0E9-C74E-4D04-A614-316E19B7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F5FB-3AE0-48B3-B050-C20B7F16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E0EF-6C8F-478E-9FA0-284A4D154959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FA1F-E931-4403-A771-58CFB46C7E99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ill There Was No Remedy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(The Divided Kingdom)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uarter 6, Lesson 1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 Kings 2:19 – 3:2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g.45-4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First Days of Elisha’s Ministr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 Kings 2:12-2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 parts the Jordan – 12-1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 pacifies some prophets – 15-1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 purifies some water – 19-2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 punishes some mocking youths – 23-2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919080"/>
            <a:ext cx="9144000" cy="5938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114800" y="4572000"/>
            <a:ext cx="838080" cy="380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3808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Locate Beth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1484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44792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t.Carme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438280" y="2819160"/>
            <a:ext cx="381240" cy="75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995640" y="228600"/>
            <a:ext cx="5148360" cy="6400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 spd="med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isha and King Jora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Incompetent King – 2 Kings 3:1-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oram’s idolatry – 1-3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oram’s intent: Get Judah to help fight the Moabites – 4-8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oram’s ineptness (9): Runs out of wa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724280" y="6019920"/>
            <a:ext cx="129564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228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Joram’s Efforts Against The Moabi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isha and King Jora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Indignant Prophet -2 Kings 3:10-2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request: Seek instruction from a prophet – 10-1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rebuke: Elisha wants no part of Joram -13-1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reply: God sends good news of water -15-19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red water: Deceives the Moabites – 20-23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routing: Moabites defeated – 24-27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209680" y="304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Locate Kir-hareset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6248520"/>
            <a:ext cx="16765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02:36:03Z</dcterms:created>
  <dc:creator>Terry W. Benton</dc:creator>
  <dc:description/>
  <dc:language>en-US</dc:language>
  <cp:lastModifiedBy>Frank D Vines</cp:lastModifiedBy>
  <dcterms:modified xsi:type="dcterms:W3CDTF">2005-08-09T13:25:52Z</dcterms:modified>
  <cp:revision>1</cp:revision>
  <dc:subject/>
  <dc:title>Till There Was No Remedy (The Divided Kingdom)</dc:title>
</cp:coreProperties>
</file>